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492-39A8-4B78-8BB1-5C84E53D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8FD-B427-4D36-9002-389319D2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24A-D74B-410B-9C13-8CF62DD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838-AA34-466E-A7D9-27899C50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7A0-C58A-4DD2-83CA-3A0001B3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392-46C2-4868-9849-2AF37900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BCC-33AE-40E5-B013-C878CA3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5215-24F6-4D56-B053-73988DBD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49AE-9C3A-4EC9-873C-95DB3D1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6F4-1AD7-4994-8908-9D4FDBD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AC79-A960-4844-9C85-3F5180B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A12-2C20-467B-B6ED-4C3F418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6BE-44CE-41E2-A4E1-B25BF22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A12D-6F51-4D02-9081-CAF6AEC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850F-035B-40AC-AB12-642C0BA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784D-5CA4-4000-866B-6836473B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DC5-66C8-48B2-9060-2E6D8A82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3ED-2A44-4D5E-8EB2-88486643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CE1-2D35-4324-8199-63C27A6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022-4E70-4418-A67D-C45B9AB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8A2-2F0E-49C4-8016-20E487C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FD3-51C1-42CC-A73F-AD24E07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954-B2F1-4BD5-ACA4-DE435A6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E88-964B-402F-B8A7-B6BB262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E32-E3F8-4575-9D2F-94A4D03B4D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373-BCCC-4D91-9D5D-FE60EA2FDA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2224f"/>
                </a:solidFill>
                <a:latin typeface="Garamond"/>
              </a:rPr>
              <a:t>Алгоритм разработки ЭОР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апы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53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Предварительная работ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Garamond"/>
              </a:rPr>
              <a:t>Сбор необходим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ка содержа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Дизайн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Производств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224f"/>
                </a:solidFill>
                <a:latin typeface="Garamond"/>
              </a:rPr>
              <a:t>Тестирова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Юридическ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7280" y="765000"/>
            <a:ext cx="4897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aramond"/>
              </a:rPr>
              <a:t>Формулировка исходной идеи. Оформление документации на разработку ЭУП. Оценка существующих элементов. Составление перечня необходимых и наличествующих специалис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Garamond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ыделение дидактических подцелей. Составление плана. Представление содержания в форме модуле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Garamond"/>
              </a:rPr>
              <a:t>Разработка концепции. Выбор медиа (звук, изображение, видео). Написание сценария. Детальный дизайн + подключение интерактивн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Garamond"/>
              </a:rPr>
              <a:t>Программирование и оцифровка содержания. Содержание изображений, звука и пр. Компоновка готовых материалов в модули. Наладка навигации на продукци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224f"/>
                </a:solidFill>
                <a:latin typeface="Garamond"/>
              </a:rPr>
              <a:t>Тестирование и оценка продук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aramond"/>
              </a:rPr>
              <a:t>Регистрация и сертификация ЭУП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ребования к ЭОР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75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тен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уктура контента-со сценарием, интерактивны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уп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вигац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зентац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пользовате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Garamond"/>
              </a:rPr>
              <a:t>Мультимедиа</a:t>
            </a:r>
            <a:br>
              <a:rPr sz="4800"/>
            </a:br>
            <a:r>
              <a:rPr b="1" lang="en-US" sz="4000" spc="-1" strike="noStrike">
                <a:solidFill>
                  <a:srgbClr val="f2224f"/>
                </a:solidFill>
                <a:latin typeface="Garamond"/>
              </a:rPr>
              <a:t>-технология, описывающая порядок разработки , функционирования и применения средств обработки разных типов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56000" y="3429000"/>
            <a:ext cx="42800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31640" y="260280"/>
            <a:ext cx="8208360" cy="6262920"/>
            <a:chOff x="431640" y="260280"/>
            <a:chExt cx="8208360" cy="6262920"/>
          </a:xfrm>
        </p:grpSpPr>
        <p:cxnSp>
          <p:nvCxnSpPr>
            <p:cNvPr id="124" name="_s17426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4862520" y="3847320"/>
              <a:ext cx="783360" cy="143748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7424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3425760" y="3847680"/>
              <a:ext cx="783360" cy="143676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7422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580720" y="780120"/>
              <a:ext cx="783360" cy="287352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7421"/>
            <p:cNvCxnSpPr>
              <a:stCxn id="126" idx="0"/>
              <a:endCxn id="131" idx="2"/>
            </p:cNvCxnSpPr>
            <p:nvPr/>
          </p:nvCxnSpPr>
          <p:spPr>
            <a:xfrm flipV="1">
              <a:off x="4536000" y="1825560"/>
              <a:ext cx="3600" cy="78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7420"/>
            <p:cNvCxnSpPr>
              <a:stCxn id="134" idx="0"/>
              <a:endCxn id="131" idx="2"/>
            </p:cNvCxnSpPr>
            <p:nvPr/>
          </p:nvCxnSpPr>
          <p:spPr>
            <a:xfrm flipH="1" flipV="1" rot="5400000">
              <a:off x="2707560" y="780480"/>
              <a:ext cx="783360" cy="287352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7416"/>
            <p:cNvSpPr/>
            <p:nvPr/>
          </p:nvSpPr>
          <p:spPr>
            <a:xfrm>
              <a:off x="3304440" y="26028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Компонен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мультимеди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7417"/>
            <p:cNvSpPr/>
            <p:nvPr/>
          </p:nvSpPr>
          <p:spPr>
            <a:xfrm>
              <a:off x="43164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Garamond"/>
                </a:rPr>
                <a:t>Звук-</a:t>
              </a: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WAV,MP3,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MIDI, RA, RA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7418"/>
            <p:cNvSpPr/>
            <p:nvPr/>
          </p:nvSpPr>
          <p:spPr>
            <a:xfrm>
              <a:off x="330444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Компьютерна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граф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7419"/>
            <p:cNvSpPr/>
            <p:nvPr/>
          </p:nvSpPr>
          <p:spPr>
            <a:xfrm>
              <a:off x="617760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Виде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7423"/>
            <p:cNvSpPr/>
            <p:nvPr/>
          </p:nvSpPr>
          <p:spPr>
            <a:xfrm>
              <a:off x="1868400" y="495756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Растровый форм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7425"/>
            <p:cNvSpPr/>
            <p:nvPr/>
          </p:nvSpPr>
          <p:spPr>
            <a:xfrm>
              <a:off x="4741560" y="495756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Векторный форм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тература:</a:t>
            </a:r>
            <a:br>
              <a:rPr sz="44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раснянский М.Н., Радченко И.М. Основы педагогического дизайна и создания мультимедийных обучающих аудио/видео материалов.-Тамбов, 2006 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Гура В.В. Теоретические основы педагогического проектирования личностно-ориентированных электронных образовательных ресурсов и сред . Ростов н/Д: издательство Южного федерального ун-та, 2007 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Беляев М.И., Гришкун В.В., Краснова Г.А. Технология создания электронных средств обучения.</a:t>
            </a:r>
            <a:endParaRPr b="1" lang="en-US" sz="1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54Z</dcterms:created>
  <dc:creator>студент</dc:creator>
  <dc:description/>
  <dc:language>en-US</dc:language>
  <cp:lastModifiedBy>студент</cp:lastModifiedBy>
  <dcterms:modified xsi:type="dcterms:W3CDTF">2012-04-03T09:42:28Z</dcterms:modified>
  <cp:revision>2</cp:revision>
  <dc:subject/>
  <dc:title>Алгоритм разработки ЭОР</dc:title>
</cp:coreProperties>
</file>